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ED3-DEFE-472E-9AAE-A16B9A4D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1E1-32BD-4755-9D09-E4CB1502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E72F-5FD7-4B12-9EF6-3689776F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D8B-D1C2-4E34-8F35-3F164125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676-1001-4CC8-A5F2-B2A3D10B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9A4E-534A-4243-BB0B-54D9C751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5AF5-B799-4C55-9C92-A2327F0C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BE4-976B-4667-BCF9-2DECD7B4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555-0BE8-4125-AEA4-2F516CF5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DEFE-7D23-4C21-A324-093E69AF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D2E-76D1-4A85-9210-555E68CA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08E-6070-4904-987C-1614650A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099E-2A2C-4AA9-B0FC-9E055AB90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24084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304920"/>
            <a:ext cx="205740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m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5562720"/>
            <a:ext cx="1066680" cy="3682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Ch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52:38Z</dcterms:created>
  <dc:creator>Computer Lab</dc:creator>
  <dc:description/>
  <dc:language>en-US</dc:language>
  <cp:lastModifiedBy>Computer Lab</cp:lastModifiedBy>
  <dcterms:modified xsi:type="dcterms:W3CDTF">2009-03-12T15:43:00Z</dcterms:modified>
  <cp:revision>8</cp:revision>
  <dc:subject/>
  <dc:title>Slide 1</dc:title>
</cp:coreProperties>
</file>